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E77E-C12F-4DB3-8DC6-89152AF2920E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’Argenteuil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2 57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e 18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% d’employés et d’ouvriers, 11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%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1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3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4 658 € et 32 779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,7% de la population et 34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Zones Urbaines Sensibles et 8 sites prioritaires. Près de 35% des habitants vivent sur les sites prioritaires de la Politique de la Vil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4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761760"/>
            <a:ext cx="8512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Un ancrage for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07, la création d’un Atelier Santé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09, la signature de la Charte ville active Programme National Nutrition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11, la signature d’un avenant au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Contrat Urbain de Cohésion Social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xpérimental sur le quartier Cité Joliot Curie – parmi les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13 quartiers 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UCS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t la présence de plusieurs centres de santé municipaux très a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diagnostic santé réalisé en 2007 à complé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densités de médecins généralistes, de spécialistes de premier recours et de chirurgiens dentistes très inférieures à celles du département et de la rég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% de l’ensemble des résidences principales relèvent du Parc Privé Potentiellement  Indigne</a:t>
            </a:r>
            <a:r>
              <a:rPr b="1" lang="fr-FR" sz="1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9528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méliorer la connaissance de l’état de santé des Argenteuillais et faire émerger les besoins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nforcer les comportements favorables à la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3: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éserver l’offre de soins sur le territo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9437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tions reten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réaliser un diagnostic (fiche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dentifier les problématiques non explorées par le premier diagnostic (fiche 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nforcer les comportements favorables en matière de nutrition (fiche 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er les médecins des possibilités d’installation sur la commune (fiche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maliser les collaborations entre les services de la municipalité et ceux de la délégation territoriale (fiche 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ider à l’accompagnement à travers une action de prévention et de promotion de la santé auprès des personnes occupants des logements reconnus insalubres (fiche 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39528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4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1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852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2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002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3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08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4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3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1-08T11:53:02Z</dcterms:modified>
  <cp:revision>22</cp:revision>
  <dc:subject/>
  <dc:title>ESSA</dc:title>
</cp:coreProperties>
</file>